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CA9F59D-F9F2-463C-B572-791936E44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41320" y="7333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67960" y="4717800"/>
            <a:ext cx="4932360" cy="4475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a diapositiva presenta el Mapa Global de la Corrup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aíses señalados con un punto rojo son aquellos percibidos como los más corruptos dentro de los 133 que clasifica este índice, o sea cuyo puntaje va de 0 a 3.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aíses violetas son aquellos cuyo puntaje va de 4 a 6.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aíses verdes son los que se perciben con un mayor nivel de transpa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e mapa presenta la distribución geográfica de la percepción de corrupción en el mundo y en el universo de 133 países que toma este IPC 200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aíses rojos (percibidos como más corruptos) se concentran en Africa, América Latina, el este de Europa y Oriente Medio y Extr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aíses violetas de índice intermedio se concentran en el sur de Europa, el sur de Af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mayor concentración de países percibidos como limpios se concentra mayormente en el hemisferio norte: América del Norte y países del norte europeo. Se presentan como excepciones aquellos de la región de Australasia (sudeste asiático y Oceaní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angiranje Srbije i Crne Go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44520" y="1268280"/>
          <a:ext cx="6942240" cy="54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268280"/>
                    <a:ext cx="694224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e 2000: snažan podsticaj da se krene sa antikorupcijskim me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 Očekivan veći pomak na listi u Srbiji; odbacivanje nalaza u Crnoj G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jektivno veliki napred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nalazimo se u društvu zemalja sa kojima bismo želeli da se pored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 ohrabrujući trend rasta, koji nije rezultat kratkoročnih mera, zato što se percepcija menja sporije od klime u druš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Složena metodologija može da dovede do pogrešnih tuma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33cc"/>
                </a:solidFill>
                <a:latin typeface="Arial"/>
              </a:rPr>
              <a:t>Ne mere se napori za borbu protiv korupcije!</a:t>
            </a:r>
            <a:r>
              <a:rPr b="0" i="1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Politička osetljivost problem kod zemalj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Optužbe u vezi sa pristrasnošću 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(druga sredstva za procenu korupcije daju slične rezul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Šansa da se unapredi javna rasprava o korup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Podsticaj za sprovođenje daljih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Globalni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i BD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8 različitih istraživanja i studija, koje je sprovelo 12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4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. – 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R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1143000"/>
            <a:ext cx="77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47640" y="1628640"/>
          <a:ext cx="6448680" cy="1979640"/>
        </p:xfrm>
        <a:graphic>
          <a:graphicData uri="http://schemas.openxmlformats.org/drawingml/2006/table">
            <a:tbl>
              <a:tblPr/>
              <a:tblGrid>
                <a:gridCol w="844560"/>
                <a:gridCol w="2251080"/>
                <a:gridCol w="1587600"/>
                <a:gridCol w="176544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istraživan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i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e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58920" y="3789360"/>
            <a:ext cx="60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4292640"/>
          <a:ext cx="6400800" cy="2255760"/>
        </p:xfrm>
        <a:graphic>
          <a:graphicData uri="http://schemas.openxmlformats.org/drawingml/2006/table">
            <a:tbl>
              <a:tblPr/>
              <a:tblGrid>
                <a:gridCol w="838440"/>
                <a:gridCol w="2257200"/>
                <a:gridCol w="1552680"/>
                <a:gridCol w="17524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istraživan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mar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ur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3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34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-28008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EEPS, The Business Environment and Enterprise Performance Survey,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U, the State Capacity Survey by the Center for International Earth Science Information Network (CIESIN) at Columbia University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IU, The Economist Intelligence Unit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FH, Freedom House Nations in Transit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I, Information International, Beirut, Lebanon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MD, the Institute for Management Development, Lausanne. We will use the three annual publications from 2002-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MDB, a multilateral development bank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IG, Grey Area Dynamics Ratings by the Merchant International Group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ERC, The Political and Economic Risk Consultancy, Hong Kong. We will use the three annual publications from 2002-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TI/GI, Gallup International on behalf of Transparency International, Bribe Payers Survey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EF, The World Economic Forum. We will use the three annual publications from 2002-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10000"/>
              </a:lnSpc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MRC, The World Markets Research Centre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5193c"/>
              </a:solidFill>
              <a:latin typeface="Arial"/>
            </a:endParaRPr>
          </a:p>
          <a:p>
            <a:pPr lvl="1" marL="7466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5280" y="2205000"/>
            <a:ext cx="7272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6560" y="278136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35772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51102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00536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36572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7339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4365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386244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3141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328464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3573360"/>
            <a:ext cx="73080" cy="716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718080"/>
            <a:ext cx="73080" cy="712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38560" y="3860640"/>
            <a:ext cx="73080" cy="716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4365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494172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47242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99736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21300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3280" y="3429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21300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328464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3141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292428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0700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14172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51640" y="299736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3068640"/>
            <a:ext cx="7272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64500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64500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357336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400536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133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4382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242100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2421000"/>
            <a:ext cx="7272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92572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852640"/>
            <a:ext cx="7272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2637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85264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00720" y="2638440"/>
            <a:ext cx="71280" cy="698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34936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256536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421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2637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278136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63700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70828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6200" y="278136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85264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270828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85264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92428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56536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24922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572000" y="2637000"/>
            <a:ext cx="71280" cy="698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645080" y="2708280"/>
            <a:ext cx="71280" cy="698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198900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198900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27664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505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32840" y="54910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511020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5040" y="50292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41520" y="3429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1148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724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4572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9440" y="19810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14164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8920" y="259092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8920" y="251460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286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97648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362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8195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6668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4038480"/>
            <a:ext cx="73080" cy="71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61240" y="3510000"/>
            <a:ext cx="73080" cy="71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5600" y="35053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5600" y="33577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0528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63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2767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7000" y="32004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1920" y="3429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32004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3577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9120" y="38862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4720" y="29718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28954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1240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3581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5956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1920" y="27478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0481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28242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3520" y="41148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70520" y="29005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0000" y="3505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33526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3809880"/>
            <a:ext cx="73080" cy="71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510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6600" y="3662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5053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38098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3505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6576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3581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581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7293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8920" y="304812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51200" y="4653000"/>
            <a:ext cx="73080" cy="712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4419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4956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7000" y="46530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4720" y="38098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6576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2670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05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6622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46483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500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8149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11948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32767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04352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38862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738600"/>
            <a:ext cx="73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5711760"/>
            <a:ext cx="1774440" cy="778680"/>
            <a:chOff x="228600" y="5711760"/>
            <a:chExt cx="1774440" cy="778680"/>
          </a:xfrm>
        </p:grpSpPr>
        <p:sp>
          <p:nvSpPr>
            <p:cNvPr id="240" name=""/>
            <p:cNvSpPr/>
            <p:nvPr/>
          </p:nvSpPr>
          <p:spPr>
            <a:xfrm>
              <a:off x="362160" y="5711760"/>
              <a:ext cx="16408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500" spc="-1" strike="noStrike">
                  <a:solidFill>
                    <a:srgbClr val="ffffff"/>
                  </a:solidFill>
                  <a:latin typeface="Arial"/>
                </a:rPr>
                <a:t>Skor više od</a:t>
              </a:r>
              <a:r>
                <a:rPr b="0" lang="es-ES" sz="1500" spc="-1" strike="noStrike">
                  <a:solidFill>
                    <a:srgbClr val="ffffff"/>
                  </a:solidFill>
                  <a:latin typeface="Arial"/>
                </a:rPr>
                <a:t> 4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500" spc="-1" strike="noStrike">
                  <a:solidFill>
                    <a:srgbClr val="ffffff"/>
                  </a:solidFill>
                  <a:latin typeface="Arial"/>
                </a:rPr>
                <a:t>Skor od</a:t>
              </a:r>
              <a:r>
                <a:rPr b="0" lang="es-ES" sz="15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r>
                <a:rPr b="0" lang="sr-Latn-CS" sz="1500" spc="-1" strike="noStrike">
                  <a:solidFill>
                    <a:srgbClr val="ffffff"/>
                  </a:solidFill>
                  <a:latin typeface="Arial"/>
                </a:rPr>
                <a:t> do </a:t>
              </a:r>
              <a:r>
                <a:rPr b="0" lang="es-ES" sz="1500" spc="-1" strike="noStrike">
                  <a:solidFill>
                    <a:srgbClr val="ffffff"/>
                  </a:solidFill>
                  <a:latin typeface="Arial"/>
                </a:rPr>
                <a:t>6.9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500" spc="-1" strike="noStrike">
                  <a:solidFill>
                    <a:srgbClr val="ffffff"/>
                  </a:solidFill>
                  <a:latin typeface="Arial"/>
                </a:rPr>
                <a:t>Skor od</a:t>
              </a:r>
              <a:r>
                <a:rPr b="0" lang="es-ES" sz="15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r>
                <a:rPr b="0" lang="sr-Latn-CS" sz="1500" spc="-1" strike="noStrike">
                  <a:solidFill>
                    <a:srgbClr val="ffffff"/>
                  </a:solidFill>
                  <a:latin typeface="Arial"/>
                </a:rPr>
                <a:t> do </a:t>
              </a:r>
              <a:r>
                <a:rPr b="0" lang="es-ES" sz="15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" y="5872320"/>
              <a:ext cx="73080" cy="71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6100920"/>
              <a:ext cx="73080" cy="7128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6329520"/>
              <a:ext cx="73080" cy="71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4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.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628640"/>
          <a:ext cx="8569080" cy="2592360"/>
        </p:xfrm>
        <a:graphic>
          <a:graphicData uri="http://schemas.openxmlformats.org/drawingml/2006/table">
            <a:tbl>
              <a:tblPr/>
              <a:tblGrid>
                <a:gridCol w="1008000"/>
                <a:gridCol w="1511280"/>
                <a:gridCol w="1501560"/>
                <a:gridCol w="1516320"/>
                <a:gridCol w="1541520"/>
                <a:gridCol w="1490400"/>
              </a:tblGrid>
              <a:tr h="398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200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 200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až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5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vat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</a:t>
                      </a:r>
                      <a:r>
                        <a:rPr b="1" lang="sr-Latn-CS" sz="2800" spc="-1" strike="noStrike">
                          <a:solidFill>
                            <a:srgbClr val="ff0066"/>
                          </a:solidFill>
                          <a:latin typeface="Wingdings 2"/>
                          <a:ea typeface="Wingdings 2"/>
                        </a:rPr>
                        <a:t>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9-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-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</a:t>
                      </a:r>
                      <a:r>
                        <a:rPr b="1" lang="sr-Latn-CS" sz="2800" spc="-1" strike="noStrike">
                          <a:solidFill>
                            <a:srgbClr val="ff0066"/>
                          </a:solidFill>
                          <a:latin typeface="Wingdings 2"/>
                          <a:ea typeface="Wingdings 2"/>
                        </a:rPr>
                        <a:t>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-7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bija i 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6-1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450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do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6-1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843280" y="5013360"/>
          <a:ext cx="3097080" cy="240516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ž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do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karag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171600" y="458136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97. -  101. m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1800" spc="-1" strike="noStrike">
                <a:solidFill>
                  <a:srgbClr val="ff0066"/>
                </a:solidFill>
                <a:latin typeface="Arial"/>
              </a:rPr>
              <a:t>CG</a:t>
            </a:r>
            <a:r>
              <a:rPr b="1" lang="sr-Latn-C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66"/>
                </a:solidFill>
                <a:latin typeface="Arial"/>
              </a:rPr>
              <a:t>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zbekist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zahst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st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ž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kist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urkmenist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zerb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jdža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0T23:04:58Z</dcterms:created>
  <dc:creator>Johannes C. Seybold</dc:creator>
  <dc:description/>
  <dc:language>en-US</dc:language>
  <cp:lastModifiedBy>User</cp:lastModifiedBy>
  <cp:lastPrinted>2001-02-20T16:28:36Z</cp:lastPrinted>
  <dcterms:modified xsi:type="dcterms:W3CDTF">2014-03-27T15:01:31Z</dcterms:modified>
  <cp:revision>260</cp:revision>
  <dc:subject/>
  <dc:title>Transparency International</dc:title>
</cp:coreProperties>
</file>